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505-FBC4-405A-AC20-2B873D34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FBA-1A1D-4D50-AE69-8573A5B2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BD95-324A-46CB-9849-98D376EC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2B6C-03BA-4F51-999B-AB9C0550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E52F-3AB3-459B-BCFB-5FC3EE64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314-D3C6-49B4-BD49-C786DC54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095-5844-4C3D-BEE6-909BE724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FD54-1CC7-4B22-8363-BB380EC5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844-0C92-4294-8822-9CDDB646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7F6C-2763-4BD1-992C-B100C191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61C-279A-4616-ABCF-8DA2496F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3D0-D829-4A19-A961-40EF528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432F-93C6-4D33-A3C5-6CC3F1A0D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learnt how to look after pe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312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4:11Z</dcterms:created>
  <dc:creator>01690112</dc:creator>
  <dc:description/>
  <dc:language>en-US</dc:language>
  <cp:lastModifiedBy>01690112</cp:lastModifiedBy>
  <dcterms:modified xsi:type="dcterms:W3CDTF">2009-07-21T10:04:20Z</dcterms:modified>
  <cp:revision>1</cp:revision>
  <dc:subject/>
  <dc:title>We learnt how to look after pets.</dc:title>
</cp:coreProperties>
</file>